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815-E6C6-441E-B2FC-B3DAF283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5BD-D96B-4DC1-9B53-28E55207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F9A-9046-46C7-857B-62F93777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191-54B4-4459-98A5-2E53B4DD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73B1-9DD6-4FA8-AA79-DACC4DEA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9CCF-6343-471B-8DDC-0C59971B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1F2E-128C-4F5D-A3C3-0B2A35DD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3395-FEA2-43D4-AB7A-F1D3D273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3C3C-BDD0-4728-A954-78482B95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52A7-43F6-4FF7-B7FB-8AA65520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FC31-AF1D-449A-B739-B6CDDF66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C9B-27D4-4D04-97A4-B91DD1F5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334F-B328-42FF-8F8D-67638810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B330-408D-40B6-94EB-04C2FFE7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0ADB-A5AA-481C-B807-58DD8F77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D69E-05DF-4F1F-9902-8DDBEE46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5E2B-DA8A-46D2-B1E2-F983E0DA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E9F-FF0C-4897-B2C5-AF3B8E4C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063-1905-433E-AD73-6EA3FCC5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52C-E7D5-4C48-AEC1-0A151579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F62-3C13-4706-8414-A9F039F0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547-6E47-46AD-80DC-8088D636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85D-DC90-479E-959D-94D22D0B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AD1-18FD-45D5-BC75-4EBF4CCF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3128-47A2-409D-856A-B2676E317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6E11-5C9F-4204-873D-3A0059FCB0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rver.riverdale.k12.or.us/~bblack/meter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Solving the puzzle of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hakespeare’s</a:t>
            </a: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language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6021000"/>
            <a:ext cx="822960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… just how in the world did he write a play in lines that sound like poetr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Dactyl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acty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/^^)   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     ^   ^  /   ^ ^ 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her up tende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hakespeare wrote in iamb’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am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tric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nit made up of one unstressed syllable followed by one stressed syl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example of an iamb would b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good BY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line of iambic pentameter flows like thi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BOOM / baBOOM / baBOOM / baBOOM / baBOO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Try it!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c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is poem excerpt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rns are meeker than they were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ts are getting brown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erry’s cheek is plumper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ose is out of tow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mily Dickinson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mily Dickenson poem is iamb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eter in line one is tetrame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 two is trime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 three has seven syllab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 four is trime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Try another!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s have webby wings that fold up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s from ceilings hang down rolled up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s when flying undismayed are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s are careful; bats use radar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Frank Jacobs, “The Bat”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The answer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773000"/>
            <a:ext cx="7696080" cy="29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The Bat" is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ochaic tetrame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means each line has three f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foot is written in trochee. This is one stressed syllable followed by one unstressed syllable. ( /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^ 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man, C. Hugh and William Harmon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 Handbook to Liter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Macmillan Publishing Company, 1986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nnedy, X.J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itera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Scott, Foresman, and Company, 1987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59f07"/>
                </a:solidFill>
                <a:uFillTx/>
                <a:latin typeface="Tahoma"/>
                <a:hlinkClick r:id="rId2"/>
              </a:rPr>
              <a:t>http://server.riverdale.k12.or.us/~bblack/meter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How he wrote his play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kespeare wrote many of his plays using poetic-like lines. That means his lines have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rhyth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Rhyth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pattern of stressed and unstressed syllables in a lin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yllable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yllab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be accented or unaccented. (stressed or unstress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oetic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fo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unit of accented and unaccented syllables that is repeated or used in sequence with others to form the me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eter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the number of ‘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fe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 in a line of poetry or in this case, in a line from a Shakespeare 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mono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di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feet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ri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feet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etra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 feet       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enta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ve f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hexa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 f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hepta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 fe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octame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ht f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ore about Feet/foo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Foot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metrical unit composed of stressed and unstressed syllables. For example, an iamb or iambic foot is represented by ˘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at is, an unaccented syllable followed by an accented one. Frost's line "Whose woods/ these are/ I think/ I know" contains four iambs, and is thus an iambic fo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cansion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cans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Describing and labeling the rhythms of poetry by dividing the lines into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fe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marking the locations of stressed and unstressed syllables, and counting the syllabl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Types of ‘feet’ - Iambic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amb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^/)   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^     /   ^    /   ^  /  ^     /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alling out of faithful friend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^   / ^    /  ^   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newing is of l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Troche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oche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/^)   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   ^      /  ^    /    ^    /  ^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uble , double toil and trouble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napes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napes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^^/)     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^  ^   /   ^     ^  /  ^ ^  /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am monarch of all I surv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23:11:30Z</dcterms:created>
  <dc:creator>Greenville Schools</dc:creator>
  <dc:description/>
  <cp:keywords/>
  <dc:language>en-US</dc:language>
  <cp:lastModifiedBy>Greenville Schools</cp:lastModifiedBy>
  <dcterms:modified xsi:type="dcterms:W3CDTF">2008-02-27T00:47:30Z</dcterms:modified>
  <cp:revision>16</cp:revision>
  <dc:subject/>
  <dc:title>Solving the puzzle of Shakespeare’s langu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33</vt:lpwstr>
  </property>
</Properties>
</file>